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3102-B189-42DB-94FF-A77BA4D29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F90D-43F3-4BEB-A8E1-32E558B9D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C6BD-F1D1-4CFB-93D2-50E9EBC14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6242-27C6-47BB-B33F-926C76DB7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1A8D-1E0E-41A7-9972-D23EE7CA2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9EB2-A048-4146-9C75-CCC640194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7C0D-FEA3-47A9-AC07-BAFFA1017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E95A-FEFF-4241-91A5-637172471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6881-EAD8-4233-80FA-FEB25A055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42FB-C4D9-4A29-9B30-F341BC5C9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A969-EC0E-4D51-AB03-8907501E5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FA52-3EEE-49C0-8EDE-53610BBCD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F61C-5023-4065-9182-9AB9DD787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A052-2F06-442E-9C94-18F5DDEF9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71C-E034-47E8-96D6-D7ED020A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188D-26FE-4F69-A254-22DCC16E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D56E-72F3-46B3-B76B-68C44BE3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65B-AADC-4F18-ACC5-AEEB8FA6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B1DC-AD0E-45BE-8EE8-7FD4D5D6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E381-FAC8-4A8B-B5AB-B2D6CE15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824B-172D-4F5F-A1E6-59F59FED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2B1-FE6E-4587-90F8-71BFAD1F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83A-E74D-402F-B959-C2D2345F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156-B9C9-47E7-828E-867E130C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C2A-1FDE-4D19-AA5A-6EF97560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8CA-D273-461D-97B1-C920C756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5001-A5E1-46C5-8A36-DD6A858B0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riz-journal.com/archives/what_is_triz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pt Generation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 of Inventive Problem Solving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Z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ussian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Contradi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a conflict between two mutually exclusive physical requirements to the same parameter of an element of the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ion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on betwee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on betwee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on between the parts and the w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on upon condition (phase-transformation, physical-chemical-transform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Liquid crystal film for privacy window.  With current transparent, w/o current op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9 Engineering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of moving 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of nonmoving 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of moving 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of nonmoving 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of moving 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of nonmoving 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of moving 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of nonmoving 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ion, press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ility of 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ng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bility of moving 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bility of nonmoving 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ght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spent by moving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spent by nonmoving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800600" y="762120"/>
            <a:ext cx="43434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te of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te of subst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 of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te of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subst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of measur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of manufactu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mful factors acting on 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mful side eff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ience of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air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ity of de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ity of cont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of auto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241960" y="64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8077320" y="5791320"/>
            <a:ext cx="838080" cy="761760"/>
          </a:xfrm>
          <a:custGeom>
            <a:avLst/>
            <a:gdLst>
              <a:gd name="textAreaLeft" fmla="*/ 112320 w 838080"/>
              <a:gd name="textAreaRight" fmla="*/ 725760 w 83808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Inventiv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523880" y="990720"/>
            <a:ext cx="6019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eg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Extraction, Separation, Removal, Se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Local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A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Combining, Integration, Mer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Universality, Multi-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N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Counterweight, Lev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Preliminary anti-action, Prior cou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Prior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Cushion in advance, compensate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Equipotentiality, remove s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Inversion, The other way a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 Spheroidality, Curviline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 Dynamicity,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 Partial or excessiv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. Moving to a new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 Mechanical vibration/osci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. Periodic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. Continuity of a useful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Inventiv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57200" y="838080"/>
            <a:ext cx="8458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. Rushing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. Convert harm into benefit, "Blessing in disgui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.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. Mediator, intermed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. Self-service, self-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. Cop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. Cheap, disposabl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. Replacement of a mechanical system with 'fields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. Pneumatics or hydraul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. Flexible membranes or thin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. Use of porous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. Changing color or optica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. Hom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. Rejection and regeneration, Discarding and recov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. Transformation of the physical and chemical states of an object, parameter change, changing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. Phase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. Thermal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. Use strong oxidizers, enriched atmospheres, accelerated ox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. Inert environment or atm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. Composite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8077320" y="5791320"/>
            <a:ext cx="838080" cy="761760"/>
          </a:xfrm>
          <a:custGeom>
            <a:avLst/>
            <a:gdLst>
              <a:gd name="textAreaLeft" fmla="*/ 112320 w 838080"/>
              <a:gd name="textAreaRight" fmla="*/ 725760 w 83808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reative problem-solving methodology tailored for scientific and engineer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more structured and based on logic and data, not intuition or brainsto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s: There are universal principles of creativity that are the basis for creative innovations that advance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mebody someplace has already solved this problem (or one very similar to it.)  Creativity is now finding that solution and adapting it to this particular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gineering ingenuity based on an inventory of ideas or a check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Z Problem Solu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8"/>
          <p:cNvGrpSpPr/>
          <p:nvPr/>
        </p:nvGrpSpPr>
        <p:grpSpPr>
          <a:xfrm>
            <a:off x="2590920" y="2514600"/>
            <a:ext cx="4343400" cy="3047760"/>
            <a:chOff x="2590920" y="2514600"/>
            <a:chExt cx="4343400" cy="3047760"/>
          </a:xfrm>
        </p:grpSpPr>
        <p:sp>
          <p:nvSpPr>
            <p:cNvPr id="54" name="Rectangle 5"/>
            <p:cNvSpPr/>
            <p:nvPr/>
          </p:nvSpPr>
          <p:spPr>
            <a:xfrm>
              <a:off x="2590920" y="2514600"/>
              <a:ext cx="160020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2590920" y="4419360"/>
              <a:ext cx="160020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ecif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334120" y="2514600"/>
              <a:ext cx="160020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334120" y="4419360"/>
              <a:ext cx="160020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ecif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0"/>
            <p:cNvSpPr/>
            <p:nvPr/>
          </p:nvSpPr>
          <p:spPr>
            <a:xfrm>
              <a:off x="3276720" y="3657600"/>
              <a:ext cx="228600" cy="761760"/>
            </a:xfrm>
            <a:prstGeom prst="upArrow">
              <a:avLst>
                <a:gd name="adj1" fmla="val 50000"/>
                <a:gd name="adj2" fmla="val 833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1"/>
            <p:cNvSpPr/>
            <p:nvPr/>
          </p:nvSpPr>
          <p:spPr>
            <a:xfrm>
              <a:off x="4191120" y="2971800"/>
              <a:ext cx="1143000" cy="228600"/>
            </a:xfrm>
            <a:prstGeom prst="rightArrow">
              <a:avLst>
                <a:gd name="adj1" fmla="val 50000"/>
                <a:gd name="adj2" fmla="val 1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12"/>
            <p:cNvSpPr/>
            <p:nvPr/>
          </p:nvSpPr>
          <p:spPr>
            <a:xfrm>
              <a:off x="6096240" y="3657600"/>
              <a:ext cx="228600" cy="761760"/>
            </a:xfrm>
            <a:prstGeom prst="downArrow">
              <a:avLst>
                <a:gd name="adj1" fmla="val 50000"/>
                <a:gd name="adj2" fmla="val 833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13"/>
          <p:cNvSpPr/>
          <p:nvPr/>
        </p:nvSpPr>
        <p:spPr>
          <a:xfrm>
            <a:off x="381960" y="1447920"/>
            <a:ext cx="27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 for previous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ve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40 inventive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3658320" y="1905120"/>
            <a:ext cx="21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ana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708660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analogous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my specific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920" y="579132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my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228600" y="3505320"/>
            <a:ext cx="222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e the problem through the prism of TR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4788000" y="598320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Levels of Problem Solu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ased on patent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e design solutions using well known methods (3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 corrections to an existing system by known methods (4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improvements to an existing system which resolv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tradi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the industry (2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 based on application of new scientific principle to perform the primary functions of the design (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oneering inventions based on rare scientific discovery (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152280" y="3048120"/>
            <a:ext cx="381240" cy="1066680"/>
          </a:xfrm>
          <a:custGeom>
            <a:avLst/>
            <a:gdLst>
              <a:gd name="textAreaLeft" fmla="*/ 243720 w 381240"/>
              <a:gd name="textAreaRight" fmla="*/ 381600 w 3812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11"/>
                </a:lnTo>
                <a:cubicBezTo>
                  <a:pt x="10800" y="9611"/>
                  <a:pt x="5400" y="10511"/>
                  <a:pt x="0" y="10511"/>
                </a:cubicBezTo>
                <a:cubicBezTo>
                  <a:pt x="5400" y="10511"/>
                  <a:pt x="10800" y="11411"/>
                  <a:pt x="10800" y="1231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765000" y="609588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IZ deals mostly with design concepts at levels 3 &amp;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and solutions are repeated across industries and sciences. The classification of the contradictions (technical or physical) in each problem predicts the creative solutions to that prob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s of technical evolution are repeated across industries and sci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ve innovations use scientific effects outside the field where they were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-Solving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Z uses a creative solution to overcom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stem confli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radiction (improve some attribute of the system lead to deterioration in other system attributes) examples: reliability vs. complexity, strength vs. flexibility, etc..  Resolve contradictions due to “technical tradeoffs”  (QFD can hel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bulation of the commonly use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39 engineering parameter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TR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pplication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40 inventiv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ve TRIZ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lengthen a static object without increasing weight. This is a contradiction. The improving feature is  #4, “length of stationary object” and the worsening factor is #2, “weight of stationary object”. Use the matrix to discover possible ways of solutions, using the following inventive princi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. Parameter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. Mechanics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. Composite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9. Pneumatics and hydraul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ttp://www.ideationtriz.com/TRIZ_tutorial_1.htm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vention 3. Gripping workpieces of complex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grip workpieces of complex shape, vice jaws must have a corresponding shape. It is expensive to produ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unique tool for every workpiece, how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ecific Problems to be resol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66800" y="4876920"/>
            <a:ext cx="39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pe, adaptability,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 to be improved/worsen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ility of an object (with a better grip)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sening/improving paramet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pe (cannot accommodate different or complex shapes)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ability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RIZ 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3, 12)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segmentation), 4 (asymmetry), 18,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3, 35)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 30, 34,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5, 13)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8, 15, 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2,13)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4,18,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3"/>
          <p:cNvGrpSpPr/>
          <p:nvPr/>
        </p:nvGrpSpPr>
        <p:grpSpPr>
          <a:xfrm>
            <a:off x="609480" y="4724280"/>
            <a:ext cx="8077320" cy="1955880"/>
            <a:chOff x="609480" y="4724280"/>
            <a:chExt cx="8077320" cy="1955880"/>
          </a:xfrm>
        </p:grpSpPr>
        <p:pic>
          <p:nvPicPr>
            <p:cNvPr id="82" name="Picture 4" descr="Images/E00000032.gif"/>
            <p:cNvPicPr/>
            <p:nvPr/>
          </p:nvPicPr>
          <p:blipFill>
            <a:blip r:embed="rId1"/>
            <a:stretch/>
          </p:blipFill>
          <p:spPr>
            <a:xfrm>
              <a:off x="6400800" y="4724280"/>
              <a:ext cx="2286000" cy="19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5"/>
            <p:cNvSpPr/>
            <p:nvPr/>
          </p:nvSpPr>
          <p:spPr>
            <a:xfrm>
              <a:off x="609480" y="4952880"/>
              <a:ext cx="5639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Solution: Placing multiple hard bushings around the workpiece. The bushings can move horizontally to conform to the necessary shap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2000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4:10:09Z</dcterms:created>
  <dc:creator/>
  <dc:description/>
  <dc:language>en-US</dc:language>
  <cp:lastModifiedBy>Bright</cp:lastModifiedBy>
  <dcterms:modified xsi:type="dcterms:W3CDTF">2013-08-22T14:06:44Z</dcterms:modified>
  <cp:revision>18</cp:revision>
  <dc:subject/>
  <dc:title>Concept Generation  Theory of Inventive Problem Solving TRIZ</dc:title>
</cp:coreProperties>
</file>